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B67-7511-46FD-A158-6354DEBF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052-5451-4310-BFDF-DA53B17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51C-505E-404C-99ED-B3D9BAB0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45B-0721-4C50-A931-11026EEC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29E-3F0B-4906-9B6A-6235570A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74A-8424-4E20-9FA3-AC708AD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CC2-7318-4E06-A4E3-FA869D07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001-5B38-4D1A-AE0F-3A88F60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79A-933E-457D-88D4-24CE668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E4B-5087-4874-AD0A-08884B9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F17-4044-4C69-9856-58F2DA7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F00-D373-4EBA-8FA6-B56D036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280B-E58D-4CDE-AE9E-A3A02FFD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en-NZ" sz="4400" spc="-1" strike="noStrike">
                <a:solidFill>
                  <a:srgbClr val="000000"/>
                </a:solidFill>
                <a:latin typeface="Monotype Corsiva"/>
              </a:rPr>
              <a:t>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t Everest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May 1953 (65 years ago last month), Sir Edmund Hillary was the first person to walk up to the top of the Mt Ev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 was from New Zea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 reached the top and it is 29,000 feet 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t Everest is the tallest mountain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ir Edmund Hil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a photo of Sir Edmund Hillary climbing Mt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952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is is Mt E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t Everest is in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559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2:48:03Z</dcterms:created>
  <dc:creator>McDougall Family </dc:creator>
  <dc:description/>
  <dc:language>en-US</dc:language>
  <cp:lastModifiedBy>McDougall Family </cp:lastModifiedBy>
  <dcterms:modified xsi:type="dcterms:W3CDTF">2012-06-13T19:04:05Z</dcterms:modified>
  <cp:revision>5</cp:revision>
  <dc:subject/>
  <dc:title>Everest</dc:title>
</cp:coreProperties>
</file>